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77FB-628B-4956-9234-69C9583DC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52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96840"/>
            <a:ext cx="8839440" cy="59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1219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219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first content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219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second content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last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44:59Z</dcterms:created>
  <dc:creator>davisd</dc:creator>
  <dc:description/>
  <dc:language>en-US</dc:language>
  <cp:lastModifiedBy>harterp</cp:lastModifiedBy>
  <dcterms:modified xsi:type="dcterms:W3CDTF">2008-01-07T20:11:45Z</dcterms:modified>
  <cp:revision>40</cp:revision>
  <dc:subject/>
  <dc:title>Slide 1</dc:title>
</cp:coreProperties>
</file>